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DD8D-3628-413D-8AB4-AF4B28DA20E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087A-EF4E-475F-8B29-D968C3873A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3095-65BB-4DDC-A7AF-956300E2FD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1A8B-A2AB-491F-B852-FA01368E7A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7E12-D4A7-484D-A094-3ABD655B2D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AF90-CA05-4E73-B964-21F18EB02F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505B-E5B7-4951-B5F1-877324E034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87CC-FF90-4FF2-81FF-6804A378F2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8B32-2F8F-4AE6-9110-2BDCCB2497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D3E4-9AAC-4116-98D2-74BE2BAF6EB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5D4CA-3078-41A9-98F5-F3E09E7335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2F08-BCC6-40DB-8400-49562D4FB31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23C52-F565-4021-A772-CEF80526E8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77F0-6940-4548-8647-55AAB8BE32B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7F531-0806-4675-9737-6461A59EA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F256-D39A-4EC1-8C05-87168B141D1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2C827-DF9C-40C0-B148-376FC9DA99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EC9F-8CF4-4F89-AB89-3BD497D4A9A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F27DB-9F53-42EE-8BE4-53164EC01B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FD31-1708-4833-BA85-BECD45FED03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F6A95-56F1-4733-81B1-6349CC76A5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E163-3EC8-44CB-B233-80AF6A9778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144-4404-42BC-9D26-99AD7F9C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A89-6B4C-49BA-BB36-DAC39033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858-DFA6-44DF-BBEC-4BE28C32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6FB-146D-450C-B0C9-4F4858DF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F52-B655-4818-9CFB-3914FDEC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97F-B585-4155-A1E9-AEAC653A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761-780D-494D-A717-AD446451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80D-78BA-4D82-B582-36AA2E81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DA2-B7E2-49BB-919E-1E8F6893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95B-3153-4D0E-9B9D-D5737E3B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4A4-664D-4ECD-ADE9-22E08C89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5CF-CC55-46B6-A635-065D1A9D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05E4-5889-4FF3-A7A4-72B55D6866F9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unoff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A very simple runoff model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236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Grid of Cells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 Height 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8" name="Picture 2" descr="Screen Shot 2013-05-22 at 15.26.25.png"/>
          <p:cNvPicPr/>
          <p:nvPr/>
        </p:nvPicPr>
        <p:blipFill>
          <a:blip r:embed="rId1"/>
          <a:stretch/>
        </p:blipFill>
        <p:spPr>
          <a:xfrm>
            <a:off x="1835280" y="1197000"/>
            <a:ext cx="568620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815328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Initial state </a:t>
            </a: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–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 Rain in the heighest cel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90" name="Picture 4" descr="Screen Shot 2013-05-22 at 15.26.25.png"/>
          <p:cNvPicPr/>
          <p:nvPr/>
        </p:nvPicPr>
        <p:blipFill>
          <a:blip r:embed="rId1"/>
          <a:stretch/>
        </p:blipFill>
        <p:spPr>
          <a:xfrm>
            <a:off x="393840" y="1568520"/>
            <a:ext cx="4394160" cy="4362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Screen Shot 2013-05-22 at 15.42.39.png"/>
          <p:cNvPicPr/>
          <p:nvPr/>
        </p:nvPicPr>
        <p:blipFill>
          <a:blip r:embed="rId2"/>
          <a:stretch/>
        </p:blipFill>
        <p:spPr>
          <a:xfrm>
            <a:off x="4788000" y="1627200"/>
            <a:ext cx="4248000" cy="42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2" name="Rectangle 3"/>
          <p:cNvSpPr/>
          <p:nvPr/>
        </p:nvSpPr>
        <p:spPr>
          <a:xfrm>
            <a:off x="468360" y="6049800"/>
            <a:ext cx="8534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1000mm of rain in the cells above 200m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Neighborhood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 based on height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289260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0"/>
          <p:cNvSpPr/>
          <p:nvPr/>
        </p:nvSpPr>
        <p:spPr>
          <a:xfrm>
            <a:off x="3971880" y="186840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1"/>
          <p:cNvSpPr/>
          <p:nvPr/>
        </p:nvSpPr>
        <p:spPr>
          <a:xfrm>
            <a:off x="3971880" y="2955960"/>
            <a:ext cx="107964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2"/>
          <p:cNvSpPr/>
          <p:nvPr/>
        </p:nvSpPr>
        <p:spPr>
          <a:xfrm>
            <a:off x="3971880" y="404964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6"/>
          <p:cNvSpPr/>
          <p:nvPr/>
        </p:nvSpPr>
        <p:spPr>
          <a:xfrm>
            <a:off x="505152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7"/>
          <p:cNvSpPr/>
          <p:nvPr/>
        </p:nvSpPr>
        <p:spPr>
          <a:xfrm>
            <a:off x="505152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8"/>
          <p:cNvSpPr/>
          <p:nvPr/>
        </p:nvSpPr>
        <p:spPr>
          <a:xfrm>
            <a:off x="505152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1"/>
          <p:cNvSpPr/>
          <p:nvPr/>
        </p:nvSpPr>
        <p:spPr>
          <a:xfrm>
            <a:off x="289728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2"/>
          <p:cNvSpPr/>
          <p:nvPr/>
        </p:nvSpPr>
        <p:spPr>
          <a:xfrm>
            <a:off x="289728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Neighborhood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 based on height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4" name="Rectangle 24"/>
          <p:cNvSpPr/>
          <p:nvPr/>
        </p:nvSpPr>
        <p:spPr>
          <a:xfrm>
            <a:off x="289260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3971880" y="186840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1"/>
          <p:cNvSpPr/>
          <p:nvPr/>
        </p:nvSpPr>
        <p:spPr>
          <a:xfrm>
            <a:off x="3971880" y="2955960"/>
            <a:ext cx="107964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3971880" y="404964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6"/>
          <p:cNvSpPr/>
          <p:nvPr/>
        </p:nvSpPr>
        <p:spPr>
          <a:xfrm>
            <a:off x="505152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505152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8"/>
          <p:cNvSpPr/>
          <p:nvPr/>
        </p:nvSpPr>
        <p:spPr>
          <a:xfrm>
            <a:off x="505152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289728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289728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Straight Arrow Connector 2"/>
          <p:cNvCxnSpPr/>
          <p:nvPr/>
        </p:nvCxnSpPr>
        <p:spPr>
          <a:xfrm flipH="1">
            <a:off x="3450960" y="3504960"/>
            <a:ext cx="1080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314" name="Straight Arrow Connector 16"/>
          <p:cNvCxnSpPr/>
          <p:nvPr/>
        </p:nvCxnSpPr>
        <p:spPr>
          <a:xfrm>
            <a:off x="4511160" y="3500280"/>
            <a:ext cx="1080" cy="109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315" name="Straight Arrow Connector 19"/>
          <p:cNvCxnSpPr/>
          <p:nvPr/>
        </p:nvCxnSpPr>
        <p:spPr>
          <a:xfrm flipH="1">
            <a:off x="3492000" y="3500280"/>
            <a:ext cx="1021680" cy="1153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316" name="Rectangle 3"/>
          <p:cNvSpPr/>
          <p:nvPr/>
        </p:nvSpPr>
        <p:spPr>
          <a:xfrm>
            <a:off x="609480" y="5834160"/>
            <a:ext cx="85345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te that the process takes place in parallel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States and transi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1619280" y="2427120"/>
            <a:ext cx="2160720" cy="100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7"/>
          <p:cNvSpPr/>
          <p:nvPr/>
        </p:nvSpPr>
        <p:spPr>
          <a:xfrm>
            <a:off x="5292720" y="2427120"/>
            <a:ext cx="2158920" cy="100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Curved Connector 4"/>
          <p:cNvCxnSpPr>
            <a:stCxn id="318" idx="0"/>
            <a:endCxn id="319" idx="0"/>
          </p:cNvCxnSpPr>
          <p:nvPr/>
        </p:nvCxnSpPr>
        <p:spPr>
          <a:xfrm flipH="1" flipV="1" rot="5400000">
            <a:off x="4535280" y="590760"/>
            <a:ext cx="13320" cy="3672360"/>
          </a:xfrm>
          <a:prstGeom prst="curvedConnector5">
            <a:avLst>
              <a:gd name="adj1" fmla="val 4625000"/>
              <a:gd name="adj2" fmla="val 50000"/>
              <a:gd name="adj3" fmla="val 4625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1" name="Curved Connector 62"/>
          <p:cNvCxnSpPr>
            <a:stCxn id="319" idx="4"/>
            <a:endCxn id="318" idx="4"/>
          </p:cNvCxnSpPr>
          <p:nvPr/>
        </p:nvCxnSpPr>
        <p:spPr>
          <a:xfrm rot="5400000">
            <a:off x="4535640" y="1599120"/>
            <a:ext cx="13320" cy="3672360"/>
          </a:xfrm>
          <a:prstGeom prst="curvedConnector5">
            <a:avLst>
              <a:gd name="adj1" fmla="val 3538888"/>
              <a:gd name="adj2" fmla="val 50000"/>
              <a:gd name="adj3" fmla="val 353888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2" name="Rectangle 3"/>
          <p:cNvSpPr/>
          <p:nvPr/>
        </p:nvSpPr>
        <p:spPr>
          <a:xfrm>
            <a:off x="609480" y="4754520"/>
            <a:ext cx="82836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What is the behavior of each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re both states necess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Relaxing cellular automata defini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24" name="Rectangle 3" descr=""/>
          <p:cNvPicPr/>
          <p:nvPr/>
        </p:nvPicPr>
        <p:blipFill>
          <a:blip r:embed="rId1"/>
          <a:stretch/>
        </p:blipFill>
        <p:spPr>
          <a:xfrm>
            <a:off x="609480" y="2011320"/>
            <a:ext cx="8285400" cy="473076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326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Ques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How to verify whether the model is correctly implemen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What are the limitations of this mod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34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How can geospatial data feed CA models?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111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60640" y="0"/>
            <a:ext cx="682596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584000" y="5302080"/>
            <a:ext cx="13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z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"/>
          <p:cNvSpPr/>
          <p:nvPr/>
        </p:nvSpPr>
        <p:spPr>
          <a:xfrm>
            <a:off x="6084720" y="2708280"/>
            <a:ext cx="266760" cy="1820880"/>
          </a:xfrm>
          <a:custGeom>
            <a:avLst/>
            <a:gdLst/>
            <a:ahLst/>
            <a:rect l="l" t="t" r="r" b="b"/>
            <a:pathLst>
              <a:path w="130" h="1018">
                <a:moveTo>
                  <a:pt x="111" y="1005"/>
                </a:moveTo>
                <a:cubicBezTo>
                  <a:pt x="63" y="960"/>
                  <a:pt x="130" y="1018"/>
                  <a:pt x="73" y="983"/>
                </a:cubicBezTo>
                <a:cubicBezTo>
                  <a:pt x="24" y="952"/>
                  <a:pt x="96" y="979"/>
                  <a:pt x="35" y="960"/>
                </a:cubicBezTo>
                <a:cubicBezTo>
                  <a:pt x="0" y="860"/>
                  <a:pt x="7" y="956"/>
                  <a:pt x="20" y="748"/>
                </a:cubicBezTo>
                <a:cubicBezTo>
                  <a:pt x="25" y="669"/>
                  <a:pt x="6" y="684"/>
                  <a:pt x="58" y="672"/>
                </a:cubicBezTo>
                <a:cubicBezTo>
                  <a:pt x="65" y="649"/>
                  <a:pt x="80" y="604"/>
                  <a:pt x="80" y="604"/>
                </a:cubicBezTo>
                <a:cubicBezTo>
                  <a:pt x="83" y="566"/>
                  <a:pt x="84" y="528"/>
                  <a:pt x="88" y="490"/>
                </a:cubicBezTo>
                <a:cubicBezTo>
                  <a:pt x="91" y="466"/>
                  <a:pt x="111" y="422"/>
                  <a:pt x="111" y="422"/>
                </a:cubicBezTo>
                <a:cubicBezTo>
                  <a:pt x="105" y="345"/>
                  <a:pt x="98" y="269"/>
                  <a:pt x="80" y="194"/>
                </a:cubicBezTo>
                <a:cubicBezTo>
                  <a:pt x="71" y="158"/>
                  <a:pt x="70" y="122"/>
                  <a:pt x="42" y="96"/>
                </a:cubicBezTo>
                <a:cubicBezTo>
                  <a:pt x="40" y="81"/>
                  <a:pt x="37" y="45"/>
                  <a:pt x="27" y="28"/>
                </a:cubicBezTo>
                <a:cubicBezTo>
                  <a:pt x="10" y="0"/>
                  <a:pt x="12" y="8"/>
                  <a:pt x="12" y="20"/>
                </a:cubicBez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"/>
          <p:cNvSpPr/>
          <p:nvPr/>
        </p:nvSpPr>
        <p:spPr>
          <a:xfrm flipH="1" flipV="1">
            <a:off x="6501960" y="3919320"/>
            <a:ext cx="917640" cy="1323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940720" y="52214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inhaço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-538200" y="0"/>
            <a:ext cx="172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927920" y="-1440"/>
            <a:ext cx="172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-1073160" y="0"/>
            <a:ext cx="10401480" cy="6926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490320" y="501336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nas Gerais State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"/>
          <p:cNvSpPr/>
          <p:nvPr/>
        </p:nvSpPr>
        <p:spPr>
          <a:xfrm>
            <a:off x="5854680" y="522360"/>
            <a:ext cx="611280" cy="3243240"/>
          </a:xfrm>
          <a:custGeom>
            <a:avLst/>
            <a:gdLst/>
            <a:ahLst/>
            <a:rect l="l" t="t" r="r" b="b"/>
            <a:pathLst>
              <a:path w="385" h="2043">
                <a:moveTo>
                  <a:pt x="200" y="2043"/>
                </a:moveTo>
                <a:cubicBezTo>
                  <a:pt x="180" y="1983"/>
                  <a:pt x="162" y="1984"/>
                  <a:pt x="117" y="1930"/>
                </a:cubicBezTo>
                <a:cubicBezTo>
                  <a:pt x="98" y="1876"/>
                  <a:pt x="114" y="1893"/>
                  <a:pt x="79" y="1869"/>
                </a:cubicBezTo>
                <a:cubicBezTo>
                  <a:pt x="56" y="1834"/>
                  <a:pt x="47" y="1802"/>
                  <a:pt x="33" y="1763"/>
                </a:cubicBezTo>
                <a:cubicBezTo>
                  <a:pt x="31" y="1725"/>
                  <a:pt x="31" y="1687"/>
                  <a:pt x="26" y="1649"/>
                </a:cubicBezTo>
                <a:cubicBezTo>
                  <a:pt x="24" y="1633"/>
                  <a:pt x="11" y="1604"/>
                  <a:pt x="11" y="1604"/>
                </a:cubicBezTo>
                <a:cubicBezTo>
                  <a:pt x="13" y="1530"/>
                  <a:pt x="0" y="1340"/>
                  <a:pt x="56" y="1255"/>
                </a:cubicBezTo>
                <a:cubicBezTo>
                  <a:pt x="78" y="1153"/>
                  <a:pt x="49" y="1267"/>
                  <a:pt x="79" y="1194"/>
                </a:cubicBezTo>
                <a:cubicBezTo>
                  <a:pt x="89" y="1169"/>
                  <a:pt x="81" y="1164"/>
                  <a:pt x="94" y="1141"/>
                </a:cubicBezTo>
                <a:cubicBezTo>
                  <a:pt x="130" y="1001"/>
                  <a:pt x="259" y="493"/>
                  <a:pt x="295" y="354"/>
                </a:cubicBezTo>
                <a:cubicBezTo>
                  <a:pt x="303" y="340"/>
                  <a:pt x="302" y="318"/>
                  <a:pt x="311" y="305"/>
                </a:cubicBezTo>
                <a:cubicBezTo>
                  <a:pt x="323" y="287"/>
                  <a:pt x="311" y="316"/>
                  <a:pt x="328" y="305"/>
                </a:cubicBezTo>
                <a:cubicBezTo>
                  <a:pt x="333" y="297"/>
                  <a:pt x="332" y="263"/>
                  <a:pt x="336" y="255"/>
                </a:cubicBezTo>
                <a:cubicBezTo>
                  <a:pt x="340" y="248"/>
                  <a:pt x="365" y="139"/>
                  <a:pt x="369" y="132"/>
                </a:cubicBezTo>
                <a:cubicBezTo>
                  <a:pt x="382" y="111"/>
                  <a:pt x="385" y="27"/>
                  <a:pt x="385" y="0"/>
                </a:cubicBez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334120" y="3581280"/>
            <a:ext cx="1600200" cy="106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-169920" y="0"/>
            <a:ext cx="9469080" cy="6948000"/>
            <a:chOff x="-169920" y="0"/>
            <a:chExt cx="9469080" cy="6948000"/>
          </a:xfrm>
        </p:grpSpPr>
        <p:grpSp>
          <p:nvGrpSpPr>
            <p:cNvPr id="174" name="Group 3"/>
            <p:cNvGrpSpPr/>
            <p:nvPr/>
          </p:nvGrpSpPr>
          <p:grpSpPr>
            <a:xfrm>
              <a:off x="-169920" y="0"/>
              <a:ext cx="9469080" cy="6948000"/>
              <a:chOff x="-169920" y="0"/>
              <a:chExt cx="9469080" cy="6948000"/>
            </a:xfrm>
          </p:grpSpPr>
          <p:grpSp>
            <p:nvGrpSpPr>
              <p:cNvPr id="175" name="Group 4"/>
              <p:cNvGrpSpPr/>
              <p:nvPr/>
            </p:nvGrpSpPr>
            <p:grpSpPr>
              <a:xfrm>
                <a:off x="-115560" y="69840"/>
                <a:ext cx="9414720" cy="6878160"/>
                <a:chOff x="-115560" y="69840"/>
                <a:chExt cx="9414720" cy="6878160"/>
              </a:xfrm>
            </p:grpSpPr>
            <p:pic>
              <p:nvPicPr>
                <p:cNvPr id="176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-9756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856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25840" y="446580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115560" y="228528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174760" y="233928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03160" y="23378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1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70680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724800" y="227880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1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4800" y="698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1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-115560" y="932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1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174760" y="12996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16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09640" y="1393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Rectangle 17"/>
                <p:cNvSpPr/>
                <p:nvPr/>
              </p:nvSpPr>
              <p:spPr>
                <a:xfrm>
                  <a:off x="-97560" y="6762600"/>
                  <a:ext cx="9396720" cy="185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Rectangle 18"/>
              <p:cNvSpPr/>
              <p:nvPr/>
            </p:nvSpPr>
            <p:spPr>
              <a:xfrm>
                <a:off x="-169920" y="0"/>
                <a:ext cx="9398520" cy="185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9"/>
            <p:cNvSpPr/>
            <p:nvPr/>
          </p:nvSpPr>
          <p:spPr>
            <a:xfrm>
              <a:off x="4638960" y="2013120"/>
              <a:ext cx="481320" cy="311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3"/>
          <p:cNvGrpSpPr/>
          <p:nvPr/>
        </p:nvGrpSpPr>
        <p:grpSpPr>
          <a:xfrm>
            <a:off x="2514600" y="2590920"/>
            <a:ext cx="5234760" cy="3118680"/>
            <a:chOff x="2514600" y="2590920"/>
            <a:chExt cx="5234760" cy="3118680"/>
          </a:xfrm>
        </p:grpSpPr>
        <p:sp>
          <p:nvSpPr>
            <p:cNvPr id="193" name="Rectangle 4"/>
            <p:cNvSpPr/>
            <p:nvPr/>
          </p:nvSpPr>
          <p:spPr>
            <a:xfrm>
              <a:off x="2514600" y="2590920"/>
              <a:ext cx="1968840" cy="255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 rot="1260000">
              <a:off x="4421880" y="4542120"/>
              <a:ext cx="3332520" cy="589680"/>
            </a:xfrm>
            <a:prstGeom prst="leftArrow">
              <a:avLst>
                <a:gd name="adj1" fmla="val 50000"/>
                <a:gd name="adj2" fmla="val 141285"/>
              </a:avLst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Vi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453960" y="274320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Pico do Itacolomi</a:t>
            </a:r>
            <a:br>
              <a:rPr sz="1400"/>
            </a:b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do Itamb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5400" y="198108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1676520" y="3200400"/>
            <a:ext cx="2057400" cy="144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2209680" y="2286000"/>
            <a:ext cx="1600200" cy="5335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124080" y="2590920"/>
            <a:ext cx="2895840" cy="1523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4800600" y="3886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203" name="Line 3"/>
          <p:cNvSpPr/>
          <p:nvPr/>
        </p:nvSpPr>
        <p:spPr>
          <a:xfrm>
            <a:off x="2209680" y="16002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733760" y="10778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Pico do Itacolomi</a:t>
            </a:r>
            <a:br>
              <a:rPr sz="1400"/>
            </a:b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do Itamb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88600" y="30492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 flipH="1">
            <a:off x="3795480" y="609480"/>
            <a:ext cx="942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3213000" y="2717640"/>
            <a:ext cx="1569960" cy="1847880"/>
          </a:xfrm>
          <a:custGeom>
            <a:avLst/>
            <a:gdLst/>
            <a:ahLst/>
            <a:rect l="l" t="t" r="r" b="b"/>
            <a:pathLst>
              <a:path w="989" h="1164">
                <a:moveTo>
                  <a:pt x="140" y="0"/>
                </a:moveTo>
                <a:cubicBezTo>
                  <a:pt x="168" y="26"/>
                  <a:pt x="176" y="10"/>
                  <a:pt x="189" y="49"/>
                </a:cubicBezTo>
                <a:cubicBezTo>
                  <a:pt x="186" y="174"/>
                  <a:pt x="267" y="434"/>
                  <a:pt x="91" y="477"/>
                </a:cubicBezTo>
                <a:cubicBezTo>
                  <a:pt x="72" y="495"/>
                  <a:pt x="52" y="508"/>
                  <a:pt x="33" y="526"/>
                </a:cubicBezTo>
                <a:cubicBezTo>
                  <a:pt x="22" y="562"/>
                  <a:pt x="9" y="597"/>
                  <a:pt x="0" y="633"/>
                </a:cubicBezTo>
                <a:cubicBezTo>
                  <a:pt x="3" y="659"/>
                  <a:pt x="7" y="788"/>
                  <a:pt x="25" y="806"/>
                </a:cubicBezTo>
                <a:cubicBezTo>
                  <a:pt x="31" y="812"/>
                  <a:pt x="42" y="811"/>
                  <a:pt x="50" y="814"/>
                </a:cubicBezTo>
                <a:cubicBezTo>
                  <a:pt x="59" y="824"/>
                  <a:pt x="110" y="885"/>
                  <a:pt x="115" y="888"/>
                </a:cubicBezTo>
                <a:cubicBezTo>
                  <a:pt x="140" y="905"/>
                  <a:pt x="166" y="961"/>
                  <a:pt x="198" y="971"/>
                </a:cubicBezTo>
                <a:cubicBezTo>
                  <a:pt x="235" y="994"/>
                  <a:pt x="293" y="1013"/>
                  <a:pt x="354" y="1028"/>
                </a:cubicBezTo>
                <a:cubicBezTo>
                  <a:pt x="399" y="1033"/>
                  <a:pt x="440" y="1003"/>
                  <a:pt x="469" y="1003"/>
                </a:cubicBezTo>
                <a:cubicBezTo>
                  <a:pt x="498" y="1003"/>
                  <a:pt x="494" y="1014"/>
                  <a:pt x="527" y="1028"/>
                </a:cubicBezTo>
                <a:cubicBezTo>
                  <a:pt x="598" y="1053"/>
                  <a:pt x="623" y="1079"/>
                  <a:pt x="667" y="1086"/>
                </a:cubicBezTo>
                <a:cubicBezTo>
                  <a:pt x="713" y="1109"/>
                  <a:pt x="765" y="1101"/>
                  <a:pt x="790" y="1102"/>
                </a:cubicBezTo>
                <a:cubicBezTo>
                  <a:pt x="822" y="1152"/>
                  <a:pt x="863" y="1134"/>
                  <a:pt x="922" y="1143"/>
                </a:cubicBezTo>
                <a:cubicBezTo>
                  <a:pt x="989" y="1164"/>
                  <a:pt x="944" y="1116"/>
                  <a:pt x="988" y="116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3809880" y="46483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1763640" y="4842000"/>
            <a:ext cx="7201080" cy="20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 rot="20760000">
            <a:off x="5163480" y="5909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6153120" y="692280"/>
            <a:ext cx="2987640" cy="38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 rot="3240000">
            <a:off x="7451280" y="2270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1692360" y="68486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Line 3"/>
          <p:cNvSpPr/>
          <p:nvPr/>
        </p:nvSpPr>
        <p:spPr>
          <a:xfrm>
            <a:off x="914400" y="838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1066680" y="990720"/>
            <a:ext cx="1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4876920" y="12952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5029200" y="10666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6553080" y="12952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6781680" y="10666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748080" y="2700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705720" y="14479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4345200" y="533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6326640" y="533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3"/>
          <p:cNvSpPr/>
          <p:nvPr/>
        </p:nvSpPr>
        <p:spPr>
          <a:xfrm>
            <a:off x="1085760" y="2743200"/>
            <a:ext cx="2967120" cy="1406520"/>
          </a:xfrm>
          <a:custGeom>
            <a:avLst/>
            <a:gdLst/>
            <a:ahLst/>
            <a:rect l="l" t="t" r="r" b="b"/>
            <a:pathLst>
              <a:path w="1869" h="886">
                <a:moveTo>
                  <a:pt x="1345" y="0"/>
                </a:moveTo>
                <a:cubicBezTo>
                  <a:pt x="1389" y="3"/>
                  <a:pt x="1434" y="2"/>
                  <a:pt x="1478" y="9"/>
                </a:cubicBezTo>
                <a:cubicBezTo>
                  <a:pt x="1489" y="11"/>
                  <a:pt x="1497" y="19"/>
                  <a:pt x="1505" y="27"/>
                </a:cubicBezTo>
                <a:cubicBezTo>
                  <a:pt x="1513" y="34"/>
                  <a:pt x="1513" y="50"/>
                  <a:pt x="1523" y="53"/>
                </a:cubicBezTo>
                <a:cubicBezTo>
                  <a:pt x="1563" y="63"/>
                  <a:pt x="1606" y="59"/>
                  <a:pt x="1647" y="62"/>
                </a:cubicBezTo>
                <a:cubicBezTo>
                  <a:pt x="1693" y="78"/>
                  <a:pt x="1665" y="66"/>
                  <a:pt x="1726" y="106"/>
                </a:cubicBezTo>
                <a:cubicBezTo>
                  <a:pt x="1734" y="111"/>
                  <a:pt x="1783" y="122"/>
                  <a:pt x="1788" y="124"/>
                </a:cubicBezTo>
                <a:cubicBezTo>
                  <a:pt x="1806" y="130"/>
                  <a:pt x="1824" y="136"/>
                  <a:pt x="1842" y="142"/>
                </a:cubicBezTo>
                <a:cubicBezTo>
                  <a:pt x="1851" y="145"/>
                  <a:pt x="1868" y="151"/>
                  <a:pt x="1868" y="151"/>
                </a:cubicBezTo>
                <a:cubicBezTo>
                  <a:pt x="1860" y="266"/>
                  <a:pt x="1869" y="255"/>
                  <a:pt x="1833" y="328"/>
                </a:cubicBezTo>
                <a:cubicBezTo>
                  <a:pt x="1829" y="336"/>
                  <a:pt x="1831" y="349"/>
                  <a:pt x="1824" y="354"/>
                </a:cubicBezTo>
                <a:cubicBezTo>
                  <a:pt x="1799" y="372"/>
                  <a:pt x="1736" y="377"/>
                  <a:pt x="1709" y="381"/>
                </a:cubicBezTo>
                <a:cubicBezTo>
                  <a:pt x="1661" y="397"/>
                  <a:pt x="1616" y="421"/>
                  <a:pt x="1567" y="434"/>
                </a:cubicBezTo>
                <a:cubicBezTo>
                  <a:pt x="1522" y="464"/>
                  <a:pt x="1501" y="463"/>
                  <a:pt x="1443" y="470"/>
                </a:cubicBezTo>
                <a:cubicBezTo>
                  <a:pt x="1319" y="510"/>
                  <a:pt x="1409" y="486"/>
                  <a:pt x="1168" y="496"/>
                </a:cubicBezTo>
                <a:cubicBezTo>
                  <a:pt x="1107" y="512"/>
                  <a:pt x="1035" y="544"/>
                  <a:pt x="973" y="549"/>
                </a:cubicBezTo>
                <a:cubicBezTo>
                  <a:pt x="880" y="556"/>
                  <a:pt x="558" y="565"/>
                  <a:pt x="495" y="567"/>
                </a:cubicBezTo>
                <a:cubicBezTo>
                  <a:pt x="396" y="592"/>
                  <a:pt x="547" y="555"/>
                  <a:pt x="388" y="585"/>
                </a:cubicBezTo>
                <a:cubicBezTo>
                  <a:pt x="319" y="598"/>
                  <a:pt x="255" y="620"/>
                  <a:pt x="184" y="629"/>
                </a:cubicBezTo>
                <a:cubicBezTo>
                  <a:pt x="137" y="645"/>
                  <a:pt x="98" y="666"/>
                  <a:pt x="52" y="682"/>
                </a:cubicBezTo>
                <a:cubicBezTo>
                  <a:pt x="49" y="691"/>
                  <a:pt x="44" y="700"/>
                  <a:pt x="43" y="709"/>
                </a:cubicBezTo>
                <a:cubicBezTo>
                  <a:pt x="38" y="741"/>
                  <a:pt x="44" y="775"/>
                  <a:pt x="34" y="806"/>
                </a:cubicBezTo>
                <a:cubicBezTo>
                  <a:pt x="31" y="816"/>
                  <a:pt x="10" y="814"/>
                  <a:pt x="7" y="824"/>
                </a:cubicBezTo>
                <a:cubicBezTo>
                  <a:pt x="0" y="844"/>
                  <a:pt x="7" y="865"/>
                  <a:pt x="7" y="88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 flipH="1">
            <a:off x="671400" y="5445000"/>
            <a:ext cx="819360" cy="12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284040" y="6424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6"/>
          <p:cNvSpPr/>
          <p:nvPr/>
        </p:nvSpPr>
        <p:spPr>
          <a:xfrm>
            <a:off x="1084320" y="4167360"/>
            <a:ext cx="1908000" cy="448920"/>
          </a:xfrm>
          <a:custGeom>
            <a:avLst/>
            <a:gdLst/>
            <a:ahLst/>
            <a:rect l="l" t="t" r="r" b="b"/>
            <a:pathLst>
              <a:path w="1202" h="283">
                <a:moveTo>
                  <a:pt x="0" y="0"/>
                </a:moveTo>
                <a:cubicBezTo>
                  <a:pt x="96" y="10"/>
                  <a:pt x="172" y="27"/>
                  <a:pt x="272" y="33"/>
                </a:cubicBezTo>
                <a:cubicBezTo>
                  <a:pt x="398" y="75"/>
                  <a:pt x="535" y="71"/>
                  <a:pt x="666" y="82"/>
                </a:cubicBezTo>
                <a:cubicBezTo>
                  <a:pt x="772" y="108"/>
                  <a:pt x="603" y="69"/>
                  <a:pt x="872" y="99"/>
                </a:cubicBezTo>
                <a:cubicBezTo>
                  <a:pt x="911" y="103"/>
                  <a:pt x="948" y="118"/>
                  <a:pt x="987" y="123"/>
                </a:cubicBezTo>
                <a:cubicBezTo>
                  <a:pt x="1004" y="129"/>
                  <a:pt x="1024" y="128"/>
                  <a:pt x="1037" y="140"/>
                </a:cubicBezTo>
                <a:cubicBezTo>
                  <a:pt x="1043" y="146"/>
                  <a:pt x="1039" y="158"/>
                  <a:pt x="1045" y="164"/>
                </a:cubicBezTo>
                <a:cubicBezTo>
                  <a:pt x="1065" y="184"/>
                  <a:pt x="1099" y="177"/>
                  <a:pt x="1127" y="181"/>
                </a:cubicBezTo>
                <a:cubicBezTo>
                  <a:pt x="1147" y="238"/>
                  <a:pt x="1128" y="224"/>
                  <a:pt x="1168" y="239"/>
                </a:cubicBezTo>
                <a:cubicBezTo>
                  <a:pt x="1174" y="244"/>
                  <a:pt x="1181" y="248"/>
                  <a:pt x="1185" y="255"/>
                </a:cubicBezTo>
                <a:cubicBezTo>
                  <a:pt x="1202" y="283"/>
                  <a:pt x="1182" y="280"/>
                  <a:pt x="1201" y="28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 flipH="1">
            <a:off x="1357200" y="1523880"/>
            <a:ext cx="40968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1729440" y="1077840"/>
            <a:ext cx="22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Pico do Itacolomi do Itamb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 flipH="1">
            <a:off x="7088040" y="1817640"/>
            <a:ext cx="40968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7464240" y="13716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Andrade</cp:lastModifiedBy>
  <cp:lastPrinted>2012-10-26T17:22:49Z</cp:lastPrinted>
  <dcterms:modified xsi:type="dcterms:W3CDTF">2016-08-05T19:38:44Z</dcterms:modified>
  <cp:revision>391</cp:revision>
  <dc:subject/>
  <dc:title>Low-carbon growth in Brazil?</dc:title>
</cp:coreProperties>
</file>